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gif" ContentType="image/gif"/>
  <Override PartName="/ppt/media/image11.wmf" ContentType="image/x-wmf"/>
  <Override PartName="/ppt/media/image3.png" ContentType="image/png"/>
  <Override PartName="/ppt/media/image23.gif" ContentType="image/gif"/>
  <Override PartName="/ppt/media/image20.png" ContentType="image/png"/>
  <Override PartName="/ppt/media/image17.gif" ContentType="image/gif"/>
  <Override PartName="/ppt/media/image18.gif" ContentType="image/gif"/>
  <Override PartName="/ppt/media/image21.png" ContentType="image/png"/>
  <Override PartName="/ppt/media/image19.png" ContentType="image/png"/>
  <Override PartName="/ppt/media/image16.jpeg" ContentType="image/jpe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2.gif" ContentType="image/gif"/>
  <Override PartName="/ppt/media/image2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50DB-96E7-43AA-BCC8-995946F87B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e insist on / upon self-reliance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坚持自力更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ot a word fell from her lips. She fell silent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一声不吭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又陷入沉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he could not suffer critic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受不了批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er hair's going gr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的头发变为灰白色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The old lady will go nuts if still no news comes from her 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假如还是没有她儿子的消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太太可真要发疯了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926-21DE-4BCE-9421-E4AD5C2D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8CB-474C-4ACB-9FAC-11A51625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708-5804-45B7-881A-70FA3A04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909-D2B4-44D9-925A-202D590C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DC72-6A9F-473E-8C71-157757A7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3A12-E5E2-468F-877C-58E90343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A03F-3356-47F0-B93B-BFA7D85B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0705-50DD-48ED-9F18-8C5A01DB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EFFB-6C02-47DD-B7D1-9A8E0A5D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8129-F40F-4572-9849-B18F2B4C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A974-512C-4012-98A5-F22AA6AD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80C-8A5E-4A95-9468-56146F2D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C00D-6454-4BF8-A93D-7972291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B8A4-9FB7-42A9-8CCC-5F78CB8B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E092-1C29-4370-A156-807B5A80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37C1-B5E2-43CA-AE55-544F77D4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759A-3173-4AA1-860B-ED8D9812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A7A-3E98-464E-856C-D9E19A08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EB6-9D76-4510-93F3-01D456BF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D9B-6712-4B51-BB9D-22E3B4C9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662-BFBB-4732-BA63-0368E263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607-0696-4D04-8B7F-F704DF6D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E7A-DA37-4817-9424-9B022524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B9C-B8E4-4FC7-8518-E393B4B1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7936-04AC-483D-B860-A7CCDE85D3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466F-A146-487C-94A1-9438389BD9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Less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w Words and Expres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oatma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old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val offic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is cousin is a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ailo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 He is doing well in the nav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HH01669_" descr=""/>
          <p:cNvPicPr/>
          <p:nvPr/>
        </p:nvPicPr>
        <p:blipFill>
          <a:blip r:embed="rId5"/>
          <a:stretch/>
        </p:blipFill>
        <p:spPr>
          <a:xfrm>
            <a:off x="5486400" y="3200400"/>
            <a:ext cx="114948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ep 1: Lea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his nationality? 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we call him “Captain”, what do you think of his job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ntry did he discov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that there is a famous strait called “Cook Strait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752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1240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ai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733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bgb3u21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44280"/>
            <a:ext cx="9144000" cy="10688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sten to the tape and tell whether these sentences are true or fals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071720"/>
            <a:ext cx="88203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Captain Cook insisted on taking live animals because he liked them very much.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ENDEAVOUR was a strong and fast ship which also had plenty of space below for storing things. 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Cook suggested taking a lot of vinegar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cleaning the inside of the ship.(   )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f.gif (15087 bytes)"/>
          <p:cNvPicPr/>
          <p:nvPr/>
        </p:nvPicPr>
        <p:blipFill>
          <a:blip r:embed="rId2"/>
          <a:stretch/>
        </p:blipFill>
        <p:spPr>
          <a:xfrm>
            <a:off x="395280" y="23288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.gif (15087 bytes)"/>
          <p:cNvPicPr/>
          <p:nvPr/>
        </p:nvPicPr>
        <p:blipFill>
          <a:blip r:embed="rId3"/>
          <a:stretch/>
        </p:blipFill>
        <p:spPr>
          <a:xfrm>
            <a:off x="4094280" y="42926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t.gif (13807 bytes)"/>
          <p:cNvPicPr/>
          <p:nvPr/>
        </p:nvPicPr>
        <p:blipFill>
          <a:blip r:embed="rId4"/>
          <a:stretch/>
        </p:blipFill>
        <p:spPr>
          <a:xfrm>
            <a:off x="8317080" y="5877000"/>
            <a:ext cx="704520" cy="44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98440"/>
            <a:ext cx="891540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tep 2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 to  the dialogue and find out: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are they going to take with them for this long journe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.Foo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buClr>
                <a:srgbClr val="0033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live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3. cabbage in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4.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8580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y are they going to take all these things with them for this long journ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Vinega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bbage in vineg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ive anim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905120"/>
            <a:ext cx="464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m to 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66688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the inside of the 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3352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hem 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4191120"/>
            <a:ext cx="7086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gs: provide them with me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ep :  provide them with meat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chickens:  provide them with eggs and m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Step3 Practice: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read the dialogue in pairs. </a:t>
            </a:r>
            <a:br>
              <a:rPr sz="6600"/>
            </a:br>
            <a:br>
              <a:rPr sz="3200"/>
            </a:b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What is Captain Cook talking about to the seama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518148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icrosoft Sans Serif"/>
              </a:rPr>
              <a:t>what stores Captain Cook wants the seaman to o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2. Why does Captain Cook insist on taking some live animals for their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the men often fall ill and suffer fev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3. What other food will they take for this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36576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a lot of cabbage in vineg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4. Why does Captain Cook want the cabbage to be kept in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41911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eating cabbage will keep them health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5. What kind of ship are they going to tak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37339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the Endeavo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journey undertaken by a group of people with a definite objectiv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56386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Lucida Sans Unicode"/>
              </a:rPr>
              <a:t>expe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4.gif (56554 字节)"/>
          <p:cNvPicPr/>
          <p:nvPr/>
        </p:nvPicPr>
        <p:blipFill>
          <a:blip r:embed="rId3"/>
          <a:stretch/>
        </p:blipFill>
        <p:spPr>
          <a:xfrm>
            <a:off x="1600200" y="762120"/>
            <a:ext cx="5761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6. Why does Captain Cook suggest taking a lot of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3809880"/>
            <a:ext cx="701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use it for cleaning the inside of the ship. If they do this, they’ll have less sickn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Step 4 Find the sentences or phras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very important that we t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It is very important that we tak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2767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I insist on tak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48006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uffer f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3200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that we would otherwise throw a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5181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I shall insist that they 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2193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endeav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419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a lot of room below for s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80880"/>
            <a:ext cx="82296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Step5.key words and phr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expedition,insist on doing,suffer fever,live animals,hear of sth,keep sb healthy,suggest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191120"/>
            <a:ext cx="7620120" cy="2399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ep 6:Language poin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838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※ 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prepare for =get ready for=make preparation for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而准备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514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at special present do you prepare for Teachers’ Day</a:t>
            </a:r>
            <a:r>
              <a:rPr b="0" lang="zh-CN" sz="4400" spc="-1" strike="noStrike">
                <a:solidFill>
                  <a:srgbClr val="ff3300"/>
                </a:solidFill>
                <a:latin typeface="Monotype Corsiv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0384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be prepared for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---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做好准备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expedition to the Pacif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44197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ave you decided which boat to take, sir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某个范围内选择一个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i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keep them healthy. Healthy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形容词作宾补，对宾语进行补充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3644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ore     1)n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y took enough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ith them for the long jour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v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can store the numbers into  your telephone so that you won’t have to dial them one by one nex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order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vt./n----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订购，订单，点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have ordered beaf for supp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company received an order of 500 comput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2) vt./n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命令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sb to do sth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’t order me to do any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ordered that everyone 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work extra hours this wee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army received an order that they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)set off before daybrea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3) n.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次序，状况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in order   ;out of order ;in the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of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insist on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taking proper food for this expeditio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3276720"/>
            <a:ext cx="4114800" cy="2743200"/>
          </a:xfrm>
          <a:prstGeom prst="cloudCallout">
            <a:avLst>
              <a:gd name="adj1" fmla="val -56750"/>
              <a:gd name="adj2" fmla="val -130324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sis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h. /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坚持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upplies, especially of food, clothing, or arm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19112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store  (</a:t>
            </a:r>
            <a:r>
              <a:rPr b="1" i="1" lang="en-US" sz="6000" spc="-1" strike="noStrike">
                <a:solidFill>
                  <a:srgbClr val="ff3300"/>
                </a:solidFill>
                <a:latin typeface="Microsoft Sans Serif"/>
              </a:rPr>
              <a:t>n</a:t>
            </a: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.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on sth. / doing sth.</a:t>
            </a:r>
            <a:br>
              <a:rPr sz="3200"/>
            </a:b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that … (should) do sth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si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“坚持”别人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应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某事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ould do,shoul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省略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insist on taking proper food for this expedition.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hall insist that they do from now on.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560" y="3276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o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her stay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t ho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 on / upon self-reli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ll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not r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ntil we finish the 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that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should) b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vi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He insisted that he had paid the bi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476280"/>
            <a:ext cx="7416720" cy="1556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常用此句型中的动词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ggest, propose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建议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命令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require, command, demand, desire, request,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要求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advis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忠告 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698920"/>
            <a:ext cx="856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e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suggests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that Mary do more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is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 suggestion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is that Mary do m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practice.</a:t>
            </a:r>
            <a:r>
              <a:rPr b="1" lang="zh-CN" sz="3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他建议玛丽多做练习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5280" y="549360"/>
            <a:ext cx="8064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insist that you _____________ (use) a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e insisted that he _____________  (not tell) a l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He suggested _____ (go) to the concert with me and I thought his expression suggested he _____ (be) really interested in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6174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hould use/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4920" y="198612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n’t 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3284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443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8604360" y="6165720"/>
            <a:ext cx="43164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. The men often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fall ill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nd suffer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438280"/>
            <a:ext cx="3505320" cy="1981440"/>
          </a:xfrm>
          <a:prstGeom prst="cloudCallout">
            <a:avLst>
              <a:gd name="adj1" fmla="val 53351"/>
              <a:gd name="adj2" fmla="val -121393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ome  ill; be 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fall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为系动词，表示“进入某种状态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night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i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on they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asle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 word fell from her lips.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sil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g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3. The men often fall ill and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suffer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124080"/>
            <a:ext cx="4343400" cy="1828800"/>
          </a:xfrm>
          <a:prstGeom prst="cloudCallout">
            <a:avLst>
              <a:gd name="adj1" fmla="val -73611"/>
              <a:gd name="adj2" fmla="val -120138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ffe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……之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suffer sth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could no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en my father was a child, 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hunger and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serous disease as a result of over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s King’s legs were badly hurt and 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great p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ahoma"/>
              </a:rPr>
              <a:t>suffer from</a:t>
            </a:r>
            <a:r>
              <a:rPr b="1" i="1" lang="zh-CN" sz="4800" spc="-1" strike="noStrike">
                <a:solidFill>
                  <a:srgbClr val="000000"/>
                </a:solidFill>
                <a:latin typeface="Tahoma"/>
                <a:ea typeface="华文新魏"/>
              </a:rPr>
              <a:t>因…而受苦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He i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 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tootha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ed</a:t>
            </a:r>
            <a:r>
              <a:rPr b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greatl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over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We learned that he wa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</a:t>
            </a:r>
            <a:r>
              <a:rPr b="1" i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canc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live  [lɑiv]          adj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活的；现场直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[ liv ]        v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生存； 活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live , li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ving: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活着的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dj                  live:  adj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生命力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ing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鱼 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e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蹦乱跳的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9280" y="146160"/>
            <a:ext cx="7578720" cy="106884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2) I didn't know we were going to take live animals with us, Sir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先生，我（刚才）不知道咱们要带活动物随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2560" y="177336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o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时还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id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前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注意语境产生的区别，有时说汉语，听不出差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3789360"/>
            <a:ext cx="763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on‘t know who he i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不知道他是何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还不知道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idn’t know who he wa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（刚才）不知道他是何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已知道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2057400"/>
            <a:ext cx="914400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provide sb.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“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给某人提供某物”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=provide sth. for sb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335268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the children ____ books.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 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books ___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800" y="312408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680" y="38098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480060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同义：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supply sb with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= supply sth  to / for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water/electricity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3049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otherwise      adv.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否则；要不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hrow away    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及物动词）扔掉；抛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Definition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o a great degree; especiall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88620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Verdana"/>
              </a:rPr>
              <a:t>particular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68360" y="115920"/>
            <a:ext cx="7176960" cy="15562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3) It is not worth taking many vegetables. They quickly go bad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带这么多蔬菜不值，因为蔬菜易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8414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 doing /sth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264960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e book is worth reading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本书值得一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31880" y="3857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sth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，佩得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480996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being done = be worthy to be don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一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539720"/>
            <a:ext cx="2665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th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c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lu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alu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2106720"/>
            <a:ext cx="374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没价值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无价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非常宝贵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3280" y="1916280"/>
            <a:ext cx="2160360" cy="576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556000" y="2491920"/>
            <a:ext cx="2520720" cy="10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2709720"/>
            <a:ext cx="2520720" cy="1150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771640" y="3860280"/>
            <a:ext cx="2305080" cy="5763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2667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Guess the mea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. They usually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go bad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s soon as we are at se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41148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went whi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ith ang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r hair'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going grey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1295280"/>
            <a:ext cx="6095880" cy="2438640"/>
          </a:xfrm>
          <a:prstGeom prst="wedgeEllipseCallout">
            <a:avLst>
              <a:gd name="adj1" fmla="val 5050"/>
              <a:gd name="adj2" fmla="val -80337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与形容词连用，表示“变得，成为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urn, become, ge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40320" y="5638680"/>
            <a:ext cx="865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go/become hungry/ mad/wrong/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5. They usually go bad as soon as we are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at sea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航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e se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ship i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children are playing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the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似的短语还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038480"/>
            <a:ext cx="327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t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21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in vinegar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in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prep.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材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36232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ink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用墨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this way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以这种方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a low voice</a:t>
            </a: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低声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029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“ </a:t>
            </a: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keep + sb. + adj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.”   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保持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6. Have you </a:t>
            </a:r>
            <a:r>
              <a:rPr b="1" i="1" lang="zh-CN" sz="3600" spc="-1" strike="noStrike">
                <a:solidFill>
                  <a:srgbClr val="ff3300"/>
                </a:solidFill>
                <a:latin typeface="Tahoma"/>
              </a:rPr>
              <a:t>decided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which boat to take, sir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didn’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hat to do th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d 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building a school t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思相近的短语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3048120"/>
            <a:ext cx="3809880" cy="838080"/>
          </a:xfrm>
          <a:prstGeom prst="wedgeEllipseCallout">
            <a:avLst>
              <a:gd name="adj1" fmla="val -50125"/>
              <a:gd name="adj2" fmla="val -92615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可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0384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up one’s mind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determined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5562720"/>
            <a:ext cx="914400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would do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表示过去习惯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e.g: She would sit like that for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7. It is a good, strong ship,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though</a:t>
            </a: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 not very fas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词</a:t>
            </a:r>
            <a:r>
              <a:rPr b="1" i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引导的让步状语从句中的主语与主句中的主语相同时，可以略去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面的主语和谓语中的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he knows a lot of things </a:t>
            </a: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ugh</a:t>
            </a:r>
            <a:r>
              <a:rPr b="1" lang="zh-CN" sz="3600" spc="-1" strike="noStrike">
                <a:solidFill>
                  <a:srgbClr val="c7c7d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very young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ugh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short of money,  they were determined to continue with their projec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. I </a:t>
            </a:r>
            <a:r>
              <a:rPr b="1" i="1" lang="zh-CN" sz="3200" spc="-1" strike="noStrike">
                <a:solidFill>
                  <a:srgbClr val="ff3300"/>
                </a:solidFill>
                <a:latin typeface="Tahoma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taking a lot of vinegar.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+ doing/n./that sb.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should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  do…     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：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how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（ 不虚拟）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I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 bringing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eting to an e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The teacher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w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(should) attend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dical confer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His pale fac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he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Arial Narrow"/>
              </a:rPr>
              <a:t>was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in poor heal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4952880"/>
            <a:ext cx="5715000" cy="1828800"/>
          </a:xfrm>
          <a:prstGeom prst="wedgeEllipseCallout">
            <a:avLst>
              <a:gd name="adj1" fmla="val -18416"/>
              <a:gd name="adj2" fmla="val -81162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“暗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show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从句用陈述语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523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vinegar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000" y="2286000"/>
            <a:ext cx="740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(do we) take vinegar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76720"/>
            <a:ext cx="91440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use sth for doing sth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                               “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使用某物去做某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7960" y="4495680"/>
            <a:ext cx="803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被动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sth be used for doing s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9. leaving at 7 a.m.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sharp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adv.(exactly at the stated time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harp  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adv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指时间“几点整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The train arrives at 4 p.m.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  <a:ea typeface="华文新魏"/>
              </a:rPr>
              <a:t>shar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124080"/>
            <a:ext cx="152388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200400"/>
            <a:ext cx="38862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 ill ,fever, sic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200400"/>
            <a:ext cx="22860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172200"/>
            <a:ext cx="236196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(of be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115920"/>
            <a:ext cx="8820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all ill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生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fall s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ffer fever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发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at sea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海上（航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row away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扔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rovide sb with sth=provide sth to sb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提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go bad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食物）变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or stores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供储存用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stor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存储备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the store (s)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库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5800" y="18900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11280" y="68112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.   Milk is easy to ________ bad in summer.                               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urn     B. go     C. be    D. be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273456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bad,  go wrong ,  go mad,  go hungry ,  go deaf ,  go blind,  go dry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固定搭配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动态动词，表示状态的变化。还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become,  grow,  get,  turn,  fall,  com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还有一类表示状态存在的静态系动词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有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eem,  appear,  look,  feel,  smell,  sound,  taste,  keep,  remain,  continue,  stay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v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。   故选答案</a:t>
            </a:r>
            <a:r>
              <a:rPr b="0" lang="zh-CN" sz="3200" spc="-1" strike="noStrike">
                <a:solidFill>
                  <a:srgbClr val="660066"/>
                </a:solidFill>
                <a:latin typeface="Comic Sans MS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t.gif (13807 bytes)"/>
          <p:cNvPicPr/>
          <p:nvPr/>
        </p:nvPicPr>
        <p:blipFill>
          <a:blip r:embed="rId2"/>
          <a:stretch/>
        </p:blipFill>
        <p:spPr>
          <a:xfrm>
            <a:off x="2787480" y="1908000"/>
            <a:ext cx="704880" cy="441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11280" y="115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hoose the best ans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2997360"/>
            <a:ext cx="75596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500280"/>
            <a:ext cx="52578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8000" y="44712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 problem ________ unsolved until    last year.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kept    B. stay    C. remained    D.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2) His face ________red at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went    B. grew  C. turned   D. loo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3) The moment he went to bed,  he________ a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go    B. fell    C. was    D.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t.gif (13807 bytes)"/>
          <p:cNvPicPr/>
          <p:nvPr/>
        </p:nvPicPr>
        <p:blipFill>
          <a:blip r:embed="rId2"/>
          <a:stretch/>
        </p:blipFill>
        <p:spPr>
          <a:xfrm>
            <a:off x="3780000" y="170028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t.gif (13807 bytes)"/>
          <p:cNvPicPr/>
          <p:nvPr/>
        </p:nvPicPr>
        <p:blipFill>
          <a:blip r:embed="rId3"/>
          <a:stretch/>
        </p:blipFill>
        <p:spPr>
          <a:xfrm>
            <a:off x="3938760" y="320364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t.gif (13807 bytes)"/>
          <p:cNvPicPr/>
          <p:nvPr/>
        </p:nvPicPr>
        <p:blipFill>
          <a:blip r:embed="rId4"/>
          <a:stretch/>
        </p:blipFill>
        <p:spPr>
          <a:xfrm>
            <a:off x="6027840" y="514836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6600" y="547920"/>
            <a:ext cx="7781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4)   That is a ________fis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5)  They are going to give ______ broadcast while the football game is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fe    B. living    C. alive   D.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6) The general was caught ______ in the w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t.gif (13807 bytes)"/>
          <p:cNvPicPr/>
          <p:nvPr/>
        </p:nvPicPr>
        <p:blipFill>
          <a:blip r:embed="rId2"/>
          <a:stretch/>
        </p:blipFill>
        <p:spPr>
          <a:xfrm>
            <a:off x="1274760" y="1125360"/>
            <a:ext cx="704880" cy="441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t.gif (13807 bytes)"/>
          <p:cNvPicPr/>
          <p:nvPr/>
        </p:nvPicPr>
        <p:blipFill>
          <a:blip r:embed="rId3"/>
          <a:stretch/>
        </p:blipFill>
        <p:spPr>
          <a:xfrm>
            <a:off x="6746760" y="3059280"/>
            <a:ext cx="704880" cy="441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t.gif (13807 bytes)"/>
          <p:cNvPicPr/>
          <p:nvPr/>
        </p:nvPicPr>
        <p:blipFill>
          <a:blip r:embed="rId4"/>
          <a:stretch/>
        </p:blipFill>
        <p:spPr>
          <a:xfrm>
            <a:off x="2627280" y="500364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-76320"/>
            <a:ext cx="876312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7 Listen and fill in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ptain Cook is___________for a great ___________to the Pacific.He is now telling a ________what_______he has to______. Cook _______on taking some______animals because they can eat the food which would be ___________ and ___________them with eggs and meat.He has decided to take lots of cabbage ___vinegar in order to__________them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also suggests________300 litres of vinegar for__________the______of the ship to protect them_______________sic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609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ep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p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600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1600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0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2133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3048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rown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0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5257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5791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791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6248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/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762120"/>
            <a:ext cx="815364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2 , page 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8  Homework            Do Ex2&amp;3 on p149 in the W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4572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x. 2 , Page 7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371600"/>
            <a:ext cx="327672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sis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ive / li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1295280"/>
            <a:ext cx="342900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8. sugge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9. has fall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0.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1. ro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2. lea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3.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4. li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57200" y="457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066680"/>
            <a:ext cx="89154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going to Tianjin by tr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eating dry food and drinking rain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storing plenty of sugar and sa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leaning the inside of the 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to go to Hangzhou instead of Dalian for my holi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o join us in this exped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0920" y="289080"/>
            <a:ext cx="8748720" cy="257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( 1 ) insi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解作‘坚决要求’， 即指说话者的要求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力说’，‘坚持认为’，即指说话者的‘看法’或‘事实’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3068640"/>
            <a:ext cx="7993080" cy="2025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sugge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作‘建议’解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暗示’，‘表明’解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8532720" y="6165720"/>
            <a:ext cx="50328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7.gif (2841 bytes)"/>
          <p:cNvPicPr/>
          <p:nvPr/>
        </p:nvPicPr>
        <p:blipFill>
          <a:blip r:embed="rId3"/>
          <a:stretch/>
        </p:blipFill>
        <p:spPr>
          <a:xfrm>
            <a:off x="539640" y="404640"/>
            <a:ext cx="473040" cy="420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26.gif (1643 bytes)"/>
          <p:cNvPicPr/>
          <p:nvPr/>
        </p:nvPicPr>
        <p:blipFill>
          <a:blip r:embed="rId4"/>
          <a:stretch/>
        </p:blipFill>
        <p:spPr>
          <a:xfrm>
            <a:off x="108000" y="2997360"/>
            <a:ext cx="7920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057400" y="2590920"/>
            <a:ext cx="55627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6600"/>
                </a:solidFill>
                <a:latin typeface="宋体"/>
              </a:rPr>
              <a:t>Good - bye  !</a:t>
            </a:r>
            <a:endParaRPr b="0" lang="en-US" sz="24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a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ly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ing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They often make experiments o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Microsoft Sans Serif"/>
              </a:rPr>
              <a:t>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 anim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MP00640_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90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eginnin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utum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he and her family went to the United States in t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fal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of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BD06675_" descr=""/>
          <p:cNvPicPr/>
          <p:nvPr/>
        </p:nvPicPr>
        <p:blipFill>
          <a:blip r:embed="rId5"/>
          <a:stretch/>
        </p:blipFill>
        <p:spPr>
          <a:xfrm>
            <a:off x="1295280" y="3124080"/>
            <a:ext cx="862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a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el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compan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uffere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a heavy loss as a result of the acci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AN01124_" descr=""/>
          <p:cNvPicPr/>
          <p:nvPr/>
        </p:nvPicPr>
        <p:blipFill>
          <a:blip r:embed="rId4"/>
          <a:stretch/>
        </p:blipFill>
        <p:spPr>
          <a:xfrm>
            <a:off x="1066680" y="2514600"/>
            <a:ext cx="955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r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 another wa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o it now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Otherwis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it will be too l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BD04918_" descr=""/>
          <p:cNvPicPr/>
          <p:nvPr/>
        </p:nvPicPr>
        <p:blipFill>
          <a:blip r:embed="rId5"/>
          <a:stretch/>
        </p:blipFill>
        <p:spPr>
          <a:xfrm>
            <a:off x="5943600" y="1905120"/>
            <a:ext cx="8366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01:30:17Z</dcterms:created>
  <dc:creator>DARK-Angel</dc:creator>
  <dc:description/>
  <dc:language>en-US</dc:language>
  <cp:lastModifiedBy>w</cp:lastModifiedBy>
  <dcterms:modified xsi:type="dcterms:W3CDTF">2004-08-03T15:45:51Z</dcterms:modified>
  <cp:revision>78</cp:revision>
  <dc:subject/>
  <dc:title>PowerPoint 演示文稿</dc:title>
</cp:coreProperties>
</file>